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CC9-0A43-498F-867A-98B1DD05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979-CE35-4178-8FC6-61BDFAB9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0D8-12D6-445C-A86D-D7B8EC31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181-E0F4-411E-BB9B-E59083EC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B054-4D01-43A6-A196-6CA48150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9525-AC25-4F87-ACD9-081C0661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B7FE-BE9F-491D-A72A-DAD7A9C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5F50-AF9C-4356-9670-F7E0B08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6A5-DE38-4A47-9329-83C4D52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43A3-7A02-49A3-A134-BEBA982D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4ED9-A9F6-44DE-A995-C4331C9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C3C-5ECF-499D-9CB0-DEFBEEB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3D34-973F-4E1B-A1B8-8F597F0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AB0F-217F-4AC8-B8AA-51D0DB0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8B0F-D186-43F3-8D0B-D40D018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6E11-222C-49EB-971E-15F67E8D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6517-1E0C-45FB-9DB3-43ED9877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135-9B7F-4F4B-B224-4B10A7DA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351-F845-412F-96EF-59597B8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515-8618-405E-9E15-6737B6A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D37-FD12-4286-B21B-4365B3A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4AF-60B6-48F1-A6B1-831F4D5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9A6-3FD6-47A7-BC74-5BF24A1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FD2-E4E6-4C0F-851C-4B554B9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A9DB-1914-43CF-A9CE-9869F768877F}" type="datetime">
              <a:rPr b="0" lang="sr-Latn-RS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F71B-451E-4800-9056-BF8646059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4782-E3E4-44B5-8223-960B86AA82E7}" type="datetime">
              <a:rPr b="0" lang="sr-Latn-RS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D12C-BE36-4E00-9177-57558B094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anatomy.net/anatomy/leginner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iro.org/chimages/b/dermatom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8893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Arial Black"/>
              </a:rPr>
              <a:t>Senzibilitet</a:t>
            </a:r>
            <a:br>
              <a:rPr sz="2800"/>
            </a:br>
            <a:r>
              <a:rPr b="0" lang="sr-Latn-RS" sz="2800" spc="-1" strike="noStrike">
                <a:solidFill>
                  <a:srgbClr val="ccecff"/>
                </a:solidFill>
                <a:latin typeface="Arial Black"/>
              </a:rPr>
              <a:t>Senzitivni sindromi</a:t>
            </a:r>
            <a:br>
              <a:rPr sz="2800"/>
            </a:br>
            <a:r>
              <a:rPr b="0" lang="sr-Latn-RS" sz="2800" spc="-1" strike="noStrike">
                <a:solidFill>
                  <a:srgbClr val="ccecff"/>
                </a:solidFill>
                <a:latin typeface="Arial Black"/>
              </a:rPr>
              <a:t>Poremećaji hoda</a:t>
            </a:r>
            <a:r>
              <a:rPr b="0" lang="sr-CS" sz="28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64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ccecff"/>
                </a:solidFill>
                <a:latin typeface="Arial"/>
              </a:rPr>
              <a:t>Dejan Aleks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Date Placeholder 1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7E3-B7D9-42C3-B2CB-2DBB7A015D8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A2F-4E08-4C1E-AEF9-9207845C27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 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otpuni presek kičmene možd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araplegija u fleks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Delimični presek kičmene možd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araplegija u ekstenzij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8F0-8378-4F2D-8B51-7421C7769639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2169-AC7F-4692-B77E-9F05E6A245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 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spastične kvadri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lezija iznad C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mlitave paralize ruku i spastične paralize no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u cervikalnoj intumescencij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spastične para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torakalnog dela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mlitave para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lumbalnog dela i S1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E39C-AC3B-491D-B57A-93505E5B9C0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DBE-7C88-40B6-B049-70D1594C5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rown-Sequard-ov sindro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lezija jedne polovine kičmene možd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duzetost piramidnog tipa ipsi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estezija u visini lezije, ipsi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štećen senzibilitet za bol i temperaturu ispod mesta lezije, kontralateral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štećen duboki senzibilitet ispod mesta lezije, ipsilatet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615-F0F4-4BFC-8447-4158B427C77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D3FA-EBAF-43B2-8782-BB5E991A0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Sindrom segmentne disocijacije senzibiliteta sa brahijalnom amiotrofijom –siringomijelički sindrom 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S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i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ringom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ij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eli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j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a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 - 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najčešće donji deo cervikalne i gornji th regije,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od 30-45 godine, slabost i hipotrofija mišića ruku (šaka), ugašeni MR, </a:t>
            </a:r>
            <a:r>
              <a:rPr b="1" lang="sl-SI" sz="2400" spc="-1" strike="noStrike">
                <a:solidFill>
                  <a:srgbClr val="3dccff"/>
                </a:solidFill>
                <a:latin typeface="YUDutchR"/>
              </a:rPr>
              <a:t>oštećen senzibilitet za bol i temperaturu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, parapar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hemangioblast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pozne posledice povrede kičmene moždine (hematom</a:t>
            </a:r>
            <a:r>
              <a:rPr b="1" lang="sr-Latn-RS" sz="2400" spc="-1" strike="noStrike">
                <a:solidFill>
                  <a:srgbClr val="ffffff"/>
                </a:solidFill>
                <a:latin typeface="YUDutchR"/>
              </a:rPr>
              <a:t>ijelija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45F2-B98F-44C6-A6E3-60A047DF589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467-9D4F-44E6-906D-9F4009172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pinalcord38"/>
          <p:cNvPicPr/>
          <p:nvPr/>
        </p:nvPicPr>
        <p:blipFill>
          <a:blip r:embed="rId1"/>
          <a:stretch/>
        </p:blipFill>
        <p:spPr>
          <a:xfrm>
            <a:off x="3048120" y="304920"/>
            <a:ext cx="3873240" cy="5857920"/>
          </a:xfrm>
          <a:prstGeom prst="rect">
            <a:avLst/>
          </a:prstGeom>
          <a:ln w="0">
            <a:noFill/>
          </a:ln>
        </p:spPr>
      </p:pic>
      <p:sp>
        <p:nvSpPr>
          <p:cNvPr id="15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BA20-80F5-471D-BDF2-8BD42DC8DBA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505-8486-4DA5-AC3E-43D4ABD7C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ecff"/>
                </a:solidFill>
                <a:latin typeface="Arial Black"/>
              </a:rPr>
              <a:t>Siringobulbij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Šupljina u produženoj moždini (nekada i ponsu), obično je udružena sa siringomijelij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Klinička slika: nistagmus, analgezija i termoanestezija jedne polovine lica, atrofija i slabost polovine jezika, paraliza mekog nepca, dizartrija, disfagija, promuk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Terapija: dekompresija šupljine putem šanta koji povezuje sirinks sa subarahnoidnim prostorom ili peritoneu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495D-6559-405C-8E69-8BBAE5991CC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67A-61AD-4523-B585-4AACC0257D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Sindrom zadnjih funikul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štećenje zadnjih funikula (funikularna mijelo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ubitak dubokog senzibiliteta (dodir, taktilna diskriminacija, duboki položajni, vibracio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 lavaboa, prsti koji sviraju klavir, Romberg sa zatvorenim oč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49C-5BED-46E5-B49D-5D664E61897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E878-6A34-4B2F-AB9E-6ADDCB6A2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dccff"/>
                </a:solidFill>
                <a:latin typeface="Arial Black"/>
              </a:rPr>
              <a:t>Tabes dorsalis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15-20 godina nakon primarne luetične infek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Gubitak neurona u dorzalnim ganglijama, degeneracija zadnjih funikul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Klinička slika: Argayl-Robertsonova zenica, arefleksija, oštećenje proprioceptivnog senzibil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Autonomna dis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Likvor: u 10-15% normalan, kod ostalih pleocitoza, hiperproteinorah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Dijagnoza: VD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Terapija:Penicillin G, 18-24 mil.jed. i.v. 14 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ili erytromycin, tetracyc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21FF-BFAF-4946-B073-AB91A77975D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B5BD-79E3-4610-BD46-23FC1690D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ecff"/>
                </a:solidFill>
                <a:latin typeface="Arial Black"/>
              </a:rPr>
              <a:t>Funikularna mijeloza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Uzrok: </a:t>
            </a:r>
            <a:r>
              <a:rPr b="1" lang="sl-SI" sz="2400" spc="-1" strike="noStrike">
                <a:solidFill>
                  <a:srgbClr val="3dccff"/>
                </a:solidFill>
                <a:latin typeface="Arial"/>
              </a:rPr>
              <a:t>deficit B12 vitam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Hematološki: perniciozna ane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Neurološki: degeneracija zadnjih i bočnih kolumni kičmene moždine, povremeno mozga, perifernih nerava, n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pticu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Ataksična kvadri- ili parapareza, MTR ugašeni, pozitivan Babin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Oštećen vibracijski i duboki položajni senzibili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Dijagnoza: megaloblastna anemija (visok MCV), snižen B12 u krvi, antiparijetalna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ozitiv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Terapija: B12 vit. 1000 gama dnevno, dve nedelje, potom 2 puta nedeljno godinu dana, jednom mesečno do kraja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754-4FAE-430E-A221-36227922FF7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9D3E-B4AB-468C-B42D-B5EC8A437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Ventralni (prednji) spinalni sindrom 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infarkt u teritoriji a</a:t>
            </a:r>
            <a:r>
              <a:rPr b="1" lang="sr-Latn-RS" sz="2800" spc="-1" strike="noStrike" u="sng">
                <a:solidFill>
                  <a:srgbClr val="ffffff"/>
                </a:solidFill>
                <a:uFillTx/>
                <a:latin typeface="YUDutchR"/>
              </a:rPr>
              <a:t>r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. spinalis anterior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    </a:t>
            </a: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(motorne slabosti, više su zahvaćene ruke nego noge, distalne slabosti, spastična pareza ispod mesta lezij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      </a:t>
            </a: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ispad senzibiliteta za bol i temperaturu, poremećaj kontrole sfinktera, impotenci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red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tumor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, 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Inflamatorni m</a:t>
            </a:r>
            <a:r>
              <a:rPr b="1" lang="sr-Latn-RS" sz="2800" spc="-1" strike="noStrike">
                <a:solidFill>
                  <a:srgbClr val="ffffff"/>
                </a:solidFill>
                <a:latin typeface="YUDutchR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elitis prednje dve tre</a:t>
            </a:r>
            <a:r>
              <a:rPr b="1" lang="sl-SI" sz="2800" spc="-1" strike="noStrike">
                <a:solidFill>
                  <a:srgbClr val="ffffff"/>
                </a:solidFill>
                <a:latin typeface="YUDutchR"/>
              </a:rPr>
              <a:t>ćine vratne kičmene možd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D749-BBED-4D9E-9472-060A33FF42A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532-F14B-46BA-A99C-2761D2D6B8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Podela senzibilite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ksteroceptivn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koža i sluznica-dodir, bol, temperat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roprioceptivni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iz dubljih tkiva-pritisak, položaj, pokreti, vibracij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nteroceptivn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visceralni) iz unutrašnjih org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5AF9-903C-449E-BC53-46080DF8ACB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71A-759A-490D-93F1-81E999E1E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Sindrom </a:t>
            </a:r>
            <a:r>
              <a:rPr b="0" lang="sl-SI" sz="2800" spc="-1" strike="noStrike">
                <a:solidFill>
                  <a:srgbClr val="3dccff"/>
                </a:solidFill>
                <a:latin typeface="YUDutchR"/>
              </a:rPr>
              <a:t>epiconus-a, </a:t>
            </a: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conus medularis-a i caudae equinae : 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Epiconus (L4-S2): ispad senzibiliteta u potkolenicama i perianalno, pareza dorzalne i plantarne fleksije stopala, snižen PR, ugašen AR, funkcija sfinktera očuv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Conus (S3-Co1), cauda equina (nervni korenovi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Uzroci lezi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metastatski karcinomi u meningeama, korenovima ili pršljen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virusni ili demijelinizacioni m</a:t>
            </a:r>
            <a:r>
              <a:rPr b="1" lang="sr-Latn-RS" sz="2400" spc="-1" strike="noStrike">
                <a:solidFill>
                  <a:srgbClr val="ffffff"/>
                </a:solidFill>
                <a:latin typeface="YUDutchR"/>
              </a:rPr>
              <a:t>ij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e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A-V fist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miksopapilarni ependimo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kongenitalne malform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C6B-92CD-4F64-B7EA-3218819320E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8F6-8011-4603-B676-85A87E9DB7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Sindrom conus medularis-a i caudae equina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549360"/>
            <a:ext cx="3809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drom konusa počinje naglo sa bilateralnom prezentacij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tani bol redak i blag u perineu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šićne slabosti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odsutne il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zna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t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imetrične, retke fascikul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etrična disocijacija senzibiliteta, gubitak  za bol i temperaturne draži</a:t>
            </a: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 očuvan za dodir u perianogenitalnoj, sedlastoj distribuci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elarni i ahilovi refleksi očuv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ntinentio urinae et alvi od samog počet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štećena muška seksualna funk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549360"/>
            <a:ext cx="410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drom kaude ekvine počinje postepeno i jednostrano, a zatim asimetrič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tani bol je jak, radikularni i asimetrič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šićne paralize su teške, asimetrične, fascikulacije uočlj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metričan ispad površ</a:t>
            </a: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insko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enzibiliteta sedlaste distribucije, bez disocij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elarni i ahilovi refleksi mogu biti ugaš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emećaj funkcije sfinktera se javlja kasnije i u blažoj m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emećaj muške seksualne funkcije blaže izraž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90F-B748-40A0-AE05-1387B784171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00C-3341-4AED-A5CD-F772B54F6C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  <p:sp>
        <p:nvSpPr>
          <p:cNvPr id="18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8882-80D1-4590-923B-50D8233211E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A780-DAE1-4F3F-BFE9-CF5F9788D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  <p:sp>
        <p:nvSpPr>
          <p:cNvPr id="18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70BC-3625-40A6-93A7-60C03C9095B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F67-E1BD-4E92-AD0B-16DC7310F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VII-</a:t>
            </a: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Sindrom foramen occipitale magnum-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zrok: tumor, trauma, siringomijelia, multipla skleroza,Chiari, atlanto-aksijalna dislokacija (RA) i druge skeletne malform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kcipitalni bol i bol u vratu sa širenjem u rame i ruku pri pokretima glave je početni si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Znaci su promenljivo izraženi: nistagmus (downbeat), hipestezija lica, dizartrija, disfonija i disfagija, spastična slabost ipsilateralne ruke pa noge,  zatim i kontralateralnih ekstrem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etko postoje znaci lezije perifernog motornog neurona na rukama usled sekundarnih vaskularnih promena kičmene mož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A39-C210-4204-B015-699BCE13D2A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EDE2-757C-45AF-AA18-F602D7324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Netumorske lezije</a:t>
            </a: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trau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pondil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hernijacija i.v. disk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tenoza spinalnog ka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infektivne bolesti (absces, tuberkulom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inflamatorne bolesti (RA, Bechterew, Sarcoido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pinalne hemora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iringomij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kongenitalni poremeća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arahnoidne 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Paget-ova bol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osteopor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2E5-A26E-40F1-9715-CB340FE08AE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9EE-4ADC-4BCB-9A55-A5D580536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291960"/>
            <a:ext cx="823572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Tumorske lezij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epidural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traduralne-ekstramedularne (meningeom, 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urofibrom, leptomeningealne metastaz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tramedula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AB4-1D10-403F-B55E-8F28888648C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963-693F-483B-853F-BB8E5FDC51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5400" y="256680"/>
            <a:ext cx="78501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NE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96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emijelinizacione (MS, AD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rusni mijelitisi (HZ, AIDS, HTLV-1, poliomijel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B12 deficij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nfar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pirohetna infekcija (lues, Ly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oksične mijelopatije (radijaci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utoimune (SLE, Sjog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araneoplastič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euronalne degener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kutni i subakutni mijelitisi nepoznatog uzro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6FB3-FD0F-49C2-AB69-36A224E487A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8473-6CDD-4EC1-8122-236EF4E8E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Talamusni bol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štećenje  senzibiliteta za sve modalitete na kontralateralnoj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lamusni 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lamusna hiperpat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067-BF20-4169-BE1D-67CB620E9F9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2D7-C532-4A48-B709-C26BE9E7D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Sindrom oštećenja senzitivne kor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Ispad senzibiliteta na kontralateralnoj strani polovini lica i t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opognozija (odrediti mesto dodi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ereognozija (prepoznavanje predmeta opipavanj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rafestezija (prepoznavanje ispisanih brojeva i slov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utotopagnozija (prepoznavanje delova te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80D3-473C-4B2A-B694-1F7350ED34A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534-BCE3-4977-8731-BBD6CBAC7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94920" y="549360"/>
            <a:ext cx="328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za površinski senzibilit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Bol, temperatur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eksualne senza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347-9B20-40D1-AC9F-0C432F8AD82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8C4-F01E-42FC-873F-9C785D1E8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8f8f8"/>
                </a:solidFill>
                <a:latin typeface="Arial Black"/>
              </a:rPr>
              <a:t>ОСНОВИ НЕУРОЛОШКОГ ПРЕГЛЕДА</a:t>
            </a:r>
            <a:r>
              <a:rPr b="1" lang="sr-Latn-R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sr-RS" sz="4000" spc="-1" strike="noStrike">
                <a:solidFill>
                  <a:srgbClr val="f8f8f8"/>
                </a:solidFill>
                <a:latin typeface="Arial Black"/>
              </a:rPr>
              <a:t>ХОДА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608360" cy="3066840"/>
          </a:xfrm>
          <a:prstGeom prst="rect">
            <a:avLst/>
          </a:prstGeom>
          <a:ln w="0">
            <a:noFill/>
          </a:ln>
        </p:spPr>
      </p:pic>
      <p:sp>
        <p:nvSpPr>
          <p:cNvPr id="218" name="Date Placeholder 4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5162-6E43-4D11-BCAB-B3811C33F25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211A-A3BC-410D-AE97-13639930A9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д представља сложену, високо координисану моторну радњу која захтева континуирану успешну интеграцију сензорних и моторних фун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д критично зависи од очуваности и нормалног функционисања ЦНС-а и ПНС-а, али захтева и компентетан мишићно-зглобни и кардиоваскуларни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 периоду од 7-9.деценије живота ход постаје несигуран и отежан, узроковано различитим узроцима: поремећај проприоцептивног сензибилитета услед недостатка витамина Б12; дегенеративне промене коштано-зглобног система; страх од пада код иначе здравих старијих особа – опрезан ход као по клизавој подлози, тзв.опрезни ход код старијих особ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B68-EC46-416E-9886-BECE402DD86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918C-A75A-4AAC-BAE2-B6A910986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 би испитали ход потребно је да обезбедимо довољно простора да болесник може слободно да хода,а  да смо у могућности да га у целости испратимо видом; уз ход посматрамо и коштане поремећаје: лордозу, кифозу, сколи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стантујемо да ли при ходу испитаник користи било какво помаг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вило је да бар у једном делу процене посматрамо положај и ход болесника када он није свестан т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3ABD-A41D-49E7-BDED-8D4473E7F78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CF3-8532-4192-92DD-921FF0E440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д пацијента тражимо да хода ритмом и брзином којом се уобичајено кре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браћамо пажњу на симетричност х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Важно је издвојити јасну асиметрију страна: хемипареза након можданог удара; хемипаркинсонизам; анталгичн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838080" y="6245280"/>
            <a:ext cx="279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D1A-A074-4686-BAFE-B8686B14F30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A3F-1FB3-49D8-BD5B-E26227A78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Уколико је ход симетричан покушавамо да одредимо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ва је дужина корака (нормална;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мала; неправилн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болесник хода на широкој основи или има маказаст ход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одиже стопала са подлоге или их вуче по њој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ав је положај трупа током ход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маше рукама у ход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прекомерно одиже коле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ви су положај и покретање карличног и раменог појас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ажњу усмеравамо на окретање или промену правца хода, обзиром да се они са тешкоћом врше код екстрапирамидних поремећаја и оштећења малог мозг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838080" y="6245280"/>
            <a:ext cx="330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D45C-4CE3-4BEF-92D3-7AADA88A65B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639-2281-4745-A896-FF02B2CD1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Уколико је ход </a:t>
            </a:r>
            <a:r>
              <a:rPr b="0" lang="sr-RS" sz="2200" spc="-1" strike="noStrike">
                <a:solidFill>
                  <a:srgbClr val="ffff00"/>
                </a:solidFill>
                <a:latin typeface="Arial"/>
              </a:rPr>
              <a:t>асиметричан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потребно је </a:t>
            </a:r>
            <a:r>
              <a:rPr b="1" lang="sr-R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 да сазнам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је ход праћен бол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постоје деформитети коштано-зглобног систе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Тражимо да испитаник стоји и хода високо на прстима, а потом и на пета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оремећај хода који постепено настаје и дуго траје може да остане потпуно непримећен од стране болесника и породице; О поремећају сазнајемо индиректно: места на којима се обућа прво излизала, на основу контрактур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ABEC-DE04-4F04-90E2-DC2C9D05EA3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A11D-7BC8-4DAC-AF9C-2F0A8C7816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емипаретичан 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са хемипарезом држи полусавијену руку уз тело, док је истострана нога укочена и у екстенз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стендирана нога са стопалом у плантарној флексији је функционално „дужа“ од здраве но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при ходу, на паретичној страни, подиже карлицу и са напором забацује паретичну ногу у страну и пут напред, при чему описује полулук (ход са циркумдукциј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838080" y="6245280"/>
            <a:ext cx="30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E49-308D-4F1F-841D-895DAF286C19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E9B-D3D7-47E5-8BC1-3168FF639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5" name="Date Placeholder 2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315E-1216-48F4-B612-E676E65863E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5AC2-5333-45A1-94D2-EA92F5C89B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429000" y="1341360"/>
            <a:ext cx="228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пастичко-парапаретички 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илатерално оштећење пирамидног пута; (дечја церебрална одузетост; комресија или траума кичмене мождине; М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жано, уз напор, покреће укочене ноге, не савијајући их у коленима,, а због изражене адукције натколеница болесник се креће тако што једну укрућену ногу пребацује (укршта) испред друге (маказаст х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838080" y="6245280"/>
            <a:ext cx="30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BEE-4F90-4148-8DFF-4540B82D7D9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1B81-A909-487D-825D-D632FE4AC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53" name="Content Placeholder 5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904000" cy="453528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2"/>
          <p:cNvSpPr/>
          <p:nvPr/>
        </p:nvSpPr>
        <p:spPr>
          <a:xfrm>
            <a:off x="838080" y="6245280"/>
            <a:ext cx="279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ED5-205B-4776-AFF4-DF11D5DA274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516-25F6-4F9D-8144-7B7269E003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Untitled-12"/>
          <p:cNvPicPr/>
          <p:nvPr/>
        </p:nvPicPr>
        <p:blipFill>
          <a:blip r:embed="rId1"/>
          <a:stretch/>
        </p:blipFill>
        <p:spPr>
          <a:xfrm>
            <a:off x="4043520" y="0"/>
            <a:ext cx="3978000" cy="690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00680" y="476280"/>
            <a:ext cx="364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Za duboki senzibilit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vibracija, pasivni pokre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globna i diskriminacija dve tačk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C18E-0EAA-44EE-A166-449E726DAD5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CD71-F674-4382-BF80-307E8E45B7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таксичан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Најчешће се види код оштећења малог мозга и највише личи на ход пијаног чове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Ход је на широкој основи, неуједначене дужине и правца корака, а болесник испољава нестабилност која је посебно упечатљива при окретању или промени правца кретањ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Уколико је оштећена једна страна малог мозга-заноси се на ту страну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700" spc="-1" strike="noStrike">
                <a:solidFill>
                  <a:srgbClr val="ffff00"/>
                </a:solidFill>
                <a:latin typeface="Arial"/>
              </a:rPr>
              <a:t>Сензорна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 атаксија – сличан ход праћен жалбама да ходају као по јастуку или перју – код оштећења проприоцептивног сензибилитета (оштећење периферних нерава или дорзалних колумни кичмене мождине). Изразито погоршање у мраку или када затворе очи (спинална атакксиј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Ход неједнаким корацима и прво спуштају пету, а потом прсте на подлогу, чује се дупли звук додира стопала са подлогом (</a:t>
            </a:r>
            <a:r>
              <a:rPr b="0" lang="sr-RS" sz="1700" spc="-1" strike="noStrike">
                <a:solidFill>
                  <a:srgbClr val="ffff00"/>
                </a:solidFill>
                <a:latin typeface="Arial"/>
              </a:rPr>
              <a:t>талонирајући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 ход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Код исцрпљених и након дугог лежања-ход тетурав, несигуран, спор-није атаксичан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838080" y="6245280"/>
            <a:ext cx="272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500-0041-4FA0-95A3-EB91FF18809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F293-A8D3-424C-9F07-2AFE1E4C3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61" name="Content Placeholder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40000" cy="1784520"/>
          </a:xfrm>
          <a:prstGeom prst="rect">
            <a:avLst/>
          </a:prstGeom>
          <a:ln w="0">
            <a:noFill/>
          </a:ln>
        </p:spPr>
      </p:pic>
      <p:sp>
        <p:nvSpPr>
          <p:cNvPr id="262" name="Date Placeholder 2"/>
          <p:cNvSpPr/>
          <p:nvPr/>
        </p:nvSpPr>
        <p:spPr>
          <a:xfrm>
            <a:off x="838080" y="6245280"/>
            <a:ext cx="3157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C83E-69DD-4730-A1B9-CE7AE031796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74B6-7225-4EEA-BA2D-3750C6085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3240000" cy="2737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38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аркинсон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Тело, руке и ноге болесника су полусавијени, а ход ситним корацима, које вуче по подлози, једва или уопште не одвајајући их од стопала („магнетни ход“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При ходу изостаји удружени покрети махања рука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На почетку болести израженије на једној стр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Антеропулз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Фестин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Оклевање-хези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55F-D7D7-4ACE-B75C-89F4A0832B7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40F-2743-4F22-9502-4D1A110C22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71" name="Content Placeholder 8" descr=""/>
          <p:cNvPicPr/>
          <p:nvPr/>
        </p:nvPicPr>
        <p:blipFill>
          <a:blip r:embed="rId1"/>
          <a:stretch/>
        </p:blipFill>
        <p:spPr>
          <a:xfrm>
            <a:off x="944640" y="1600200"/>
            <a:ext cx="7254720" cy="4525920"/>
          </a:xfrm>
          <a:prstGeom prst="rect">
            <a:avLst/>
          </a:prstGeom>
          <a:ln w="0">
            <a:noFill/>
          </a:ln>
        </p:spPr>
      </p:pic>
      <p:sp>
        <p:nvSpPr>
          <p:cNvPr id="272" name="Date Placeholder 2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891E-684A-4F34-87E4-6B275F5640F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ECD6-E303-48FE-9901-BEA67A7B9E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75" name="Content Placeholder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465440" cy="4753080"/>
          </a:xfrm>
          <a:prstGeom prst="rect">
            <a:avLst/>
          </a:prstGeom>
          <a:ln w="0">
            <a:noFill/>
          </a:ln>
        </p:spPr>
      </p:pic>
      <p:sp>
        <p:nvSpPr>
          <p:cNvPr id="276" name="Date Placeholder 2"/>
          <p:cNvSpPr/>
          <p:nvPr/>
        </p:nvSpPr>
        <p:spPr>
          <a:xfrm>
            <a:off x="826920" y="638172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D12-F2D1-43FB-89FA-65E83642784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271-FD91-4CC8-8BF5-7D40338A8E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0258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еронеални или петлов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абост претибијалних и перонеалних мишића (обострано код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Charcot-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rie-Toothove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ти или једнострано код једностране радикулопатије Л5 корена, мононуритис мултиплекса или код оштећења заједничког перонеалног нерва) јавља се пад стопала (висеће стопало) када болесник није у стању да изврши дорзалну флекс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 ходу високо подиже и савија ногу у куку и коле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„Степовање“ –прво подлогу додирује палцем, а потом п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C29-B3A5-491C-B0C1-2FDADC6341A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DF68-E194-4782-965F-DA2D885B4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84" name="Content Placeholder 6" descr=""/>
          <p:cNvPicPr/>
          <p:nvPr/>
        </p:nvPicPr>
        <p:blipFill>
          <a:blip r:embed="rId1"/>
          <a:stretch/>
        </p:blipFill>
        <p:spPr>
          <a:xfrm>
            <a:off x="457200" y="2112840"/>
            <a:ext cx="8229600" cy="3500640"/>
          </a:xfrm>
          <a:prstGeom prst="rect">
            <a:avLst/>
          </a:prstGeom>
          <a:ln w="0">
            <a:noFill/>
          </a:ln>
        </p:spPr>
      </p:pic>
      <p:sp>
        <p:nvSpPr>
          <p:cNvPr id="285" name="Date Placeholder 2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B113-2477-4A33-BD88-E588185E116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AE1-3CA0-4FAB-8F4E-FFC73B2458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Миопатск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иопатије које су праћене слабошћу проксималних мишића ногу и карличног појаса (мишићне дистрофије; метаболичке, запаљенске и ендокрине миопатије) карактеришу се гегајућим или паткастим хо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наизменично премешта тежину са једне на другу ногу, уз често изражену лордозу крсног пред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838080" y="6245280"/>
            <a:ext cx="301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4C24-58EE-46D3-8B86-8BE7107900B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DB79-CC05-484D-86B3-B0A8292CC0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92" name="Content Placeholder 5" descr=""/>
          <p:cNvPicPr/>
          <p:nvPr/>
        </p:nvPicPr>
        <p:blipFill>
          <a:blip r:embed="rId1"/>
          <a:stretch/>
        </p:blipFill>
        <p:spPr>
          <a:xfrm>
            <a:off x="1886040" y="184932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293" name="Date Placeholder 2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CA3C-1D44-4509-9B57-2DD3BE77B48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EFE-C363-432E-87DD-0CD23D3517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Анталгичан х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оследица бола услед нпр.лумбоишијалгије, ортопедских поремећаја у куку или колену и сл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Ослања се на здраву ногу, а штеди „болну“ ногу и само краткотрајно се ослања на врх стопал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Психогени х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Функционални, неоргански, „фантастичан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Не уклапа се ни у једну од познатих органских форми поремећеног хода, има бизарне карактеристике које се могу мењати из прегледа у преглед, не прате га повређивања, и обично се смањује или губи када болесник мисли да га нико не посматр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838080" y="6245280"/>
            <a:ext cx="438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CA4-6304-4BAA-96A3-9949B283D9D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C93-2896-4661-8081-35FDBA4D9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Arial Black"/>
              </a:rPr>
              <a:t>Senzitivni sindromi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Date Placeholder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0055-6862-4132-9643-3FE09AA0ABE9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451-9AAB-4319-916B-614CF92E5E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075680" y="1773360"/>
            <a:ext cx="528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Mogu biti posledica oštećenja na različitim nivo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CNS-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k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tala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moždano stablo (kranijalni ner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kičmena mož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PN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dorzalni nervni korenovi kičmene možd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periferni ner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300" name="Content Placeholder 5" descr=""/>
          <p:cNvPicPr/>
          <p:nvPr/>
        </p:nvPicPr>
        <p:blipFill>
          <a:blip r:embed="rId1"/>
          <a:stretch/>
        </p:blipFill>
        <p:spPr>
          <a:xfrm>
            <a:off x="1946160" y="1600200"/>
            <a:ext cx="5251680" cy="4525920"/>
          </a:xfrm>
          <a:prstGeom prst="rect">
            <a:avLst/>
          </a:prstGeom>
          <a:ln w="0">
            <a:noFill/>
          </a:ln>
        </p:spPr>
      </p:pic>
      <p:sp>
        <p:nvSpPr>
          <p:cNvPr id="301" name="Date Placeholder 2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FC8-1C0F-4696-A19C-00DDBA8A87C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D26-B464-4045-A12F-7BC2BBD50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ладимир С.Костић. Основи неуролошког прегледа, 2013. Беог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7A3-CD2E-43DC-90DF-524D2606A7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3232-8FF5-4837-A6D2-A797233FCDF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Senzitivni sindromi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 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a perifernih ne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ispad senzibilieta za sve modalitete u distribuciji oštećenog nerva -mononeuropat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060640"/>
            <a:ext cx="216036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DB6-FB70-4150-8F84-88755372356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2CC0-CB56-4243-A862-D8B9BD67AE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Polineuropatij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126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  čarapa i rukav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etročni, distalni ispad senzibiliteta za sve modalitete na rukama i nog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oliner"/>
          <p:cNvPicPr/>
          <p:nvPr/>
        </p:nvPicPr>
        <p:blipFill>
          <a:blip r:embed="rId1"/>
          <a:stretch/>
        </p:blipFill>
        <p:spPr>
          <a:xfrm>
            <a:off x="5651640" y="1484280"/>
            <a:ext cx="2592360" cy="454824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576-A5ED-4ABE-A4CF-B6B37E8BA8C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548A-8A35-4A89-97DF-2A2BC65E9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Lezija dorzalnih korenova I gangliona  - dermatom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296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truzije disk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erpes z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13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7A53-FF6F-471B-89C5-AAFC058E872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F7D8-C158-4421-9461-8F8A202FC3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Naglo nastao presek kičmene možd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I Faza (tzv. faza spinalnog šoka, oko 3-4 sedmice), ugašene funkcije kičmene moždi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Ugašen senzibilitet za sve kvalitete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od povređenog segmenta nani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tonija, ugašeni ref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Retencija mokraće, bešika proširena, atonič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II Faza, uspostavljaju se funkcije kičmene moždi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jačani mišićni refleksi, povišen to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U visini povrede paraliza perifernog tipa mišića inervisani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d tih segmen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Neurogena beš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880-E2AD-4141-AFCD-008EDC9D1B7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274-1FB3-423D-982D-0B5ED28371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2:41:28Z</dcterms:created>
  <dc:creator>Slobodan Apostolski</dc:creator>
  <dc:description/>
  <dc:language>en-US</dc:language>
  <cp:lastModifiedBy>Dejan Aleksic</cp:lastModifiedBy>
  <dcterms:modified xsi:type="dcterms:W3CDTF">2021-09-28T09:39:26Z</dcterms:modified>
  <cp:revision>130</cp:revision>
  <dc:subject/>
  <dc:title>Bolesti kičmene moždine</dc:title>
</cp:coreProperties>
</file>